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65B0-85ED-4099-93E7-59D7D369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8EBF-82D1-402A-AB54-8898D36FF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43BD-BC03-4187-9288-7D087578C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AB52-F1CA-4A4F-9EDC-4C3D64261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62A0-CED1-4892-B8A0-E78B09F50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1F2A-0F38-4BA2-BC20-51282700C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0D31-6358-48A7-9B0B-5C024B8E4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B145-6822-42F6-9E10-6D3BD528C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7E9D-631D-4450-ACE4-350A0BBAF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789F-4605-4407-BAA6-A7BC6DC83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7C11-F73F-4D12-8972-E5ED97766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227B-FE69-4E9D-BD8E-082570F52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68C-09FC-4963-BA21-24357B704C6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0 December 2005 – version 3.0 – Page </a:t>
            </a:r>
            <a:fld id="{2C44E2A9-28F1-47E8-9D12-33A014D7010F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w to Request a new or another Project Manager for a Project in Primavera.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document describes the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List of Cont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Ho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-2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 Manager request - 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Each project in Primavera do have a Project Managers Responsible assign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At a later time the Project Manager who shall join the management of the project, may be assigned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questers may be Line Managers, PLT, PPL, PLC, Local Supporters, and Planning Coordinator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Project Managers to projects in Primavera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To ensure that Primavera write and linking rights are assigned to Project Managers in agreement with the Project Manager Responsible this guide has to be follow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Manager request - How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fore the request (by e-mail) is send to 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 Support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the requester ensures the acceptance by the Project Manager Responsible (for details look at page 5)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 request must includ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imavera project ID nam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ame of the new Project Manager i.e. Primavera login name or e-mail addres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ocumentation for the Project Managers acceptance e.g. e-mail confirmation of the acceptanc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he responsibility: either Project Manager or Project Manager Responsible must be stated (only one Project Manager Responsible per project allowed)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 case of the withdrawal of a Project Manager, then inform who to be withdrawn as Primavera login name or e-mail addres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or withdraws the writing and linking rights for the Project Manager in question and informs via e-mail the involved parties, that the change has been don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Open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EPS select the</a:t>
            </a:r>
            <a:br>
              <a:rPr sz="2000"/>
            </a:b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project in ques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Enterprise” and “OB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8136000" y="3564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973080"/>
            <a:ext cx="536400" cy="302760"/>
          </a:xfrm>
          <a:prstGeom prst="wedgeEllipseCallout">
            <a:avLst>
              <a:gd name="adj1" fmla="val 53486"/>
              <a:gd name="adj2" fmla="val 54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159000" cy="32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668840"/>
            <a:ext cx="320688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59480" y="4632480"/>
            <a:ext cx="536760" cy="302760"/>
          </a:xfrm>
          <a:prstGeom prst="wedgeEllipseCallout">
            <a:avLst>
              <a:gd name="adj1" fmla="val -42962"/>
              <a:gd name="adj2" fmla="val 515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2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91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OBS the project in question is mark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Users” and find the Login Name of the Project Manager Responsible or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”Admin” and “User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Login Name columns find the person Login Name e.g. klf17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Name and e-mail address of the Project Manager Responsibl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(If the shown columns are not shown please include those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513240" cy="226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6720" y="13716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4160" y="1747800"/>
            <a:ext cx="536760" cy="302760"/>
          </a:xfrm>
          <a:prstGeom prst="wedgeEllipseCallout">
            <a:avLst>
              <a:gd name="adj1" fmla="val -42361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61080" y="3125880"/>
            <a:ext cx="3511440" cy="16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15320" y="320364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59280" y="4805280"/>
            <a:ext cx="3510000" cy="144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67440" y="4653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9920" y="472428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55Z</dcterms:created>
  <dc:creator>Bjarne Lund Thomsen</dc:creator>
  <dc:description>Version 2.1 - 20 December 2005 - osm - updated as Benq template
Version number changed to 3.0 - 25 January 2006 - OSM</dc:description>
  <dc:language>en-US</dc:language>
  <cp:lastModifiedBy>Ole Sletting Madsen</cp:lastModifiedBy>
  <dcterms:modified xsi:type="dcterms:W3CDTF">2006-01-25T10:07:37Z</dcterms:modified>
  <cp:revision>10</cp:revision>
  <dc:subject/>
  <dc:title>How to Request a new or another Project Manager</dc:title>
</cp:coreProperties>
</file>